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78B-9E48-4065-AD33-E9B58851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051-7901-49FC-B7CE-CA24510D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BB7-2D4E-4E90-A014-6127E5C2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6D3-5563-45C9-8317-06EF2022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ECD8-5B86-4CE5-AEAB-7987E04C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14B0-9BE8-4C3A-8A0F-9BC5A96A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404E-36AB-4480-9FAD-E769F7ED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16D9-EFA5-43B6-93D9-2B204AE1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2FFD-70AA-42F8-85B0-1E912752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07E1-1DEA-4668-9838-99ECA62B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DA2D-E44B-40A0-A068-D35C8D7E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4BD-A0FB-483B-AB51-CFDCF680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D79B-7A25-4BF7-B9A8-B3F79A1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A652-FD2C-455E-AA0B-F2DC1B58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8172-76B7-4DAA-A6B1-F5A482E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BEDB-10A0-49A6-8DBE-2C945D7A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1951-C188-489A-BC58-1ED6D592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B5F-00E6-4F54-B0AE-20D0DEC8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CEA-4B38-49CB-B326-998874BD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22A-FD86-40C2-8B35-93F16CA8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BD8-AEF6-4789-90D8-C809AEF3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AD9-986C-4D44-AD79-99F648C5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B27-293C-4373-BF6F-4B1B6F7B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19F-36DB-41B9-B697-CF3475C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21DD-FA8D-4302-83F1-63970EA5F4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6998-18F7-4D9D-8DCA-41ED46A5D6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av.rds.yahoo.com/_ylt=A0Je5XAPbqtEJYYBL1.HBqMX;_ylu=X3oDMTBwanIybjRqBHBndANhdHdfaW1nX3Jlc3VsdARzZWMDc3I-/SIG=11u4396fu/EXP=1152171919/**http%3A//www.ale-lyon.org/ImageEtiketNRJ.gif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av.rds.yahoo.com/_ylt=A0Je5XXacqtE.CYBt16HBqMX;_ylu=X3oDMTBwanIybjRqBHBndANhdHdfaW1nX3Jlc3VsdARzZWMDc3I-/SIG=12u3i6t66/EXP=1152173146/**http%3A//newsimg.bbc.co.uk/media/images/39114000/jpg/_39114577_petrol203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av.rds.yahoo.com/_ylt=A0Je5XJIc6tE1YcAWJ6HBqMX;_ylu=X3oDMTBwanIybjRqBHBndANhdHdfaW1nX3Jlc3VsdARzZWMDc3I-/SIG=12fppc03n/EXP=1152173256/**http%3A//www.ville-bondy.fr/environnement/image/poubelle1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5280" y="981000"/>
            <a:ext cx="56052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'environne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51280" y="3789360"/>
            <a:ext cx="2295360" cy="244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21720" y="189000"/>
            <a:ext cx="46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8f326"/>
                </a:solidFill>
                <a:uFillTx/>
                <a:latin typeface="Comic Sans MS"/>
              </a:rPr>
              <a:t>mardi 20 mai 2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 u="sng">
                <a:solidFill>
                  <a:srgbClr val="e5ffff"/>
                </a:solidFill>
                <a:uFillTx/>
                <a:latin typeface="Tahoma"/>
              </a:rPr>
              <a:t>QU’EST-CE QU’ON PEUT FAIRE?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ffff"/>
                </a:solidFill>
                <a:latin typeface="Perpetua Titling MT"/>
              </a:rPr>
              <a:t>Les trois </a:t>
            </a:r>
            <a:r>
              <a:rPr b="1" lang="en-GB" sz="6000" spc="-1" strike="noStrike">
                <a:solidFill>
                  <a:srgbClr val="f8f326"/>
                </a:solidFill>
                <a:latin typeface="Perpetua Titling MT"/>
              </a:rPr>
              <a:t>“R”</a:t>
            </a:r>
            <a:r>
              <a:rPr b="1" lang="en-GB" sz="6000" spc="-1" strike="noStrike">
                <a:solidFill>
                  <a:srgbClr val="e5ffff"/>
                </a:solidFill>
                <a:latin typeface="Perpetua Titling MT"/>
              </a:rPr>
              <a:t> de l’environnement</a:t>
            </a:r>
            <a:br>
              <a:rPr sz="6000"/>
            </a:br>
            <a:br>
              <a:rPr sz="6000"/>
            </a:br>
            <a:r>
              <a:rPr b="1" lang="en-GB" sz="6000" spc="-1" strike="noStrike">
                <a:solidFill>
                  <a:srgbClr val="e5ffff"/>
                </a:solidFill>
                <a:latin typeface="Perpetua Titling MT"/>
              </a:rPr>
              <a:t>POUVEZ VOUS ME DONNER UN EXEMPLE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4390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8f326"/>
                </a:solidFill>
                <a:uFillTx/>
                <a:latin typeface="Comic Sans MS"/>
              </a:rPr>
              <a:t>Réduire</a:t>
            </a:r>
            <a:r>
              <a:rPr b="1" lang="en-GB" sz="6000" spc="-1" strike="noStrike">
                <a:solidFill>
                  <a:srgbClr val="f8f326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On peut réduire…la pollution…la consommation… / les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292720" y="836640"/>
            <a:ext cx="3527280" cy="4969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omic Sans MS"/>
              </a:rPr>
              <a:t>voyages en voiture/av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Comic Sans MS"/>
              </a:rPr>
              <a:t>emprein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1" lang="en-GB" sz="4000" spc="-1" strike="noStrike">
                <a:solidFill>
                  <a:srgbClr val="003366"/>
                </a:solidFill>
                <a:latin typeface="Comic Sans MS"/>
              </a:rPr>
              <a:t>écologiq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omic Sans MS"/>
                <a:ea typeface="Arial"/>
              </a:rPr>
              <a:t>éléctricit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Comic Sans MS"/>
              </a:rPr>
              <a:t>ess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omic Sans MS"/>
              </a:rPr>
              <a:t>ea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8f326"/>
                </a:solidFill>
                <a:uFillTx/>
                <a:latin typeface="Comic Sans MS"/>
              </a:rPr>
              <a:t>Réutilise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8f326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8f326"/>
                </a:solidFill>
                <a:latin typeface="Comic Sans MS"/>
              </a:rPr>
              <a:t>On peut réutiliser le / la / les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253600" y="4905360"/>
            <a:ext cx="3536640" cy="1312920"/>
          </a:xfrm>
          <a:prstGeom prst="rect">
            <a:avLst/>
          </a:prstGeom>
          <a:solidFill>
            <a:srgbClr val="2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s--- e- ------q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p---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6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 u="sng">
                <a:solidFill>
                  <a:srgbClr val="f8f326"/>
                </a:solidFill>
                <a:uFillTx/>
                <a:latin typeface="Comic Sans MS"/>
              </a:rPr>
              <a:t>Recycler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 </a:t>
            </a: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On peut recycle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 </a:t>
            </a: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le/la/les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e5ffff"/>
                </a:solidFill>
                <a:uFillTx/>
                <a:latin typeface="Tahoma"/>
              </a:rPr>
              <a:t>traduisez en français s.v.p.</a:t>
            </a:r>
            <a:r>
              <a:rPr b="0" lang="en-GB" sz="6000" spc="-1" strike="noStrike">
                <a:solidFill>
                  <a:srgbClr val="e5ffff"/>
                </a:solidFill>
                <a:latin typeface="Tahoma"/>
              </a:rPr>
              <a:t>       3 minutes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 save electricity. For example I turn off the lights when I leave the 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 save water. For example I turn off the tap when I brush my tee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 save petrol. For example I use public transp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électricité. Par exemple j’éteins les lumières quand je quitte 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au. Par exemple, je ferme le robinet quand je me brosse les 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ssence. Par exemple, j’utilise les transports en comm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150920" cy="1120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08360" y="3716280"/>
            <a:ext cx="1152720" cy="1119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19640" y="5734080"/>
            <a:ext cx="936720" cy="876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596360" y="5373720"/>
            <a:ext cx="1223640" cy="1160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372360" y="580536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Exerc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vais au _____________une fois par sema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 mère________le verre et l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__________l’énergie : nous ________la télé avant de sor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ne ________ pas la consommation d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jette mes _______ dans la poub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Exerc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vais au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fois par sema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 mère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verre et l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énergie : 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élé avant de sor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s la consommation d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jette m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ans la poub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84280"/>
            <a:ext cx="38145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entre de recyc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2492280"/>
            <a:ext cx="21607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3500280"/>
            <a:ext cx="280836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conomi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4581360"/>
            <a:ext cx="180000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5516640"/>
            <a:ext cx="201600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éc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005360"/>
            <a:ext cx="23767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teign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5ffff"/>
                </a:solidFill>
                <a:latin typeface="Tahoma"/>
              </a:rPr>
              <a:t>ET VOUS ?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Tahoma"/>
              </a:rPr>
              <a:t>QU’EST-CE QUE VOUS FAITES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Tahoma"/>
              </a:rPr>
              <a:t>OU QU’EST-CE QUE VOUS AVEZ FAIT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8900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Objectif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be able to introduce and analyse environmental </a:t>
            </a:r>
            <a:r>
              <a:rPr b="1" lang="en-US" sz="3600" spc="-1" strike="noStrike">
                <a:solidFill>
                  <a:srgbClr val="f8f326"/>
                </a:solidFill>
                <a:latin typeface="Comic Sans MS"/>
              </a:rPr>
              <a:t>f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express and justify </a:t>
            </a:r>
            <a:r>
              <a:rPr b="0" lang="en-US" sz="3600" spc="-1" strike="noStrike">
                <a:solidFill>
                  <a:srgbClr val="f8f326"/>
                </a:solidFill>
                <a:latin typeface="Comic Sans MS"/>
              </a:rPr>
              <a:t>opin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</a:t>
            </a:r>
            <a:r>
              <a:rPr b="1" lang="en-US" sz="3600" spc="-1" strike="noStrike">
                <a:solidFill>
                  <a:srgbClr val="f8f326"/>
                </a:solidFill>
                <a:latin typeface="Comic Sans MS"/>
              </a:rPr>
              <a:t>specula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bou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you would do if you had more money, time and political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ow problems could be solv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might happen if they are not resol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A ton avis, qu’est-ce qu’il </a:t>
            </a: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faudrait</a:t>
            </a: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 faire pour plus proteger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mon avis, il faudrait plus recycler tous les déch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 faudrait aussi économiser l’énergie en général: l’électricité et l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erre n’est pas une poubelle ! Il ne faudrait pas jeter les déchets par ter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437000"/>
            <a:ext cx="720720" cy="684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4437000"/>
            <a:ext cx="865080" cy="644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95640" y="5950080"/>
            <a:ext cx="66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ffff"/>
                </a:solidFill>
                <a:latin typeface="Tahoma"/>
              </a:rPr>
              <a:t>To achieve high marks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326"/>
                </a:solidFill>
                <a:latin typeface="Perpetua Titling MT"/>
              </a:rPr>
              <a:t>Show knowledge of basic fact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Quels sont les grands problèmes de l’environnement en général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326"/>
                </a:solidFill>
                <a:latin typeface="Perpetua Titling MT"/>
              </a:rPr>
              <a:t>Show knowledge of additional fact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Quelles sont les r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é</a:t>
            </a: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actions des politiciens, des pays qui pourraient influencer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558972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326"/>
                </a:solidFill>
                <a:latin typeface="Perpetua Titling MT"/>
              </a:rPr>
              <a:t>Show knowledge of additional fact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Que penses-tu du film de Monsieur Al Go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Une _ _ _ _ _ _ qu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dé _ _ _ _ _’ </a:t>
            </a: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558972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Tahoma"/>
              </a:rPr>
              <a:t>Express opin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Tu penses que ces probl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è</a:t>
            </a: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mes sont vrais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Tu crois que l’humanit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 peut r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soudre ces probl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è</a:t>
            </a: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mes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Tahoma"/>
              </a:rPr>
              <a:t>Give a reason for your opinion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ahoma"/>
              </a:rPr>
              <a:t>Pourquoi penses-tu 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ahoma"/>
              </a:rPr>
              <a:t>Comment es-tu arriv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é à tes conclusions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326"/>
                </a:solidFill>
                <a:latin typeface="Tahoma"/>
              </a:rPr>
              <a:t>Speculate using conditional cla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ahoma"/>
              </a:rPr>
              <a:t>Si tu avais le temps et les moyens tu aimerais faire quelque chose pour l’environnement?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326"/>
                </a:solidFill>
                <a:latin typeface="Tahoma"/>
              </a:rPr>
              <a:t>Speculate using conditional cla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2205000"/>
            <a:ext cx="799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Qu’est-ce que tu aimerais changer si tu avais le pouvoir, comme Premier Ministre par exempl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326"/>
                </a:solidFill>
                <a:latin typeface="Tahoma"/>
              </a:rPr>
              <a:t>Speculate using conditional cla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13372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Qu’est-ce qui arrivera sur Terre, si rien  ne change et les probl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è</a:t>
            </a: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mes continuen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35640" y="558972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e5ffff"/>
                </a:solidFill>
                <a:uFillTx/>
                <a:latin typeface="Perpetua Titling MT"/>
              </a:rPr>
              <a:t>Quels sont les grands problèmes de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effet de serre – les CF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réchauffement de la planè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de l’ea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pluies aci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atmosphér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espèces en voie de disparition. Exemple: le pa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27640" y="544500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38800" y="5452920"/>
            <a:ext cx="1223640" cy="1068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43280" y="2060640"/>
            <a:ext cx="1224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637000"/>
            <a:ext cx="295272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3068640"/>
            <a:ext cx="15829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789360"/>
            <a:ext cx="11523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4365720"/>
            <a:ext cx="215892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5013360"/>
            <a:ext cx="158436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4941720"/>
            <a:ext cx="8650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326"/>
                </a:solidFill>
                <a:latin typeface="Tahoma"/>
              </a:rPr>
              <a:t>Speculate using conditional cla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21337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Que va se passer dans cinquante ans ou plus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558972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5280" y="189000"/>
            <a:ext cx="8748720" cy="68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LE PLENUM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PRESENTATION IN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3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8f326"/>
                </a:solidFill>
                <a:uFillTx/>
                <a:latin typeface="Comic Sans MS"/>
              </a:rPr>
              <a:t>Les faits</a:t>
            </a:r>
            <a:r>
              <a:rPr b="1" lang="en-GB" sz="4000" spc="-1" strike="noStrike">
                <a:solidFill>
                  <a:srgbClr val="f8f326"/>
                </a:solidFill>
                <a:latin typeface="Comic Sans MS"/>
              </a:rPr>
              <a:t> (points de vu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3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326"/>
                </a:solidFill>
                <a:uFillTx/>
                <a:latin typeface="Comic Sans MS"/>
              </a:rPr>
              <a:t>Avis</a:t>
            </a:r>
            <a:r>
              <a:rPr b="1" lang="en-US" sz="4000" spc="-1" strike="noStrike">
                <a:solidFill>
                  <a:srgbClr val="f8f326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326"/>
                </a:solidFill>
                <a:uFillTx/>
                <a:latin typeface="Comic Sans MS"/>
              </a:rPr>
              <a:t>Spéculations</a:t>
            </a:r>
            <a:r>
              <a:rPr b="1" lang="en-US" sz="4000" spc="-1" strike="noStrike">
                <a:solidFill>
                  <a:srgbClr val="f8f326"/>
                </a:solidFill>
                <a:latin typeface="Comic Sans MS"/>
              </a:rPr>
              <a:t> (</a:t>
            </a:r>
            <a:r>
              <a:rPr b="1" lang="en-GB" sz="3200" spc="-1" strike="noStrike">
                <a:solidFill>
                  <a:srgbClr val="f8f326"/>
                </a:solidFill>
                <a:latin typeface="Comic Sans MS"/>
              </a:rPr>
              <a:t>sur le pr</a:t>
            </a:r>
            <a:r>
              <a:rPr b="1" lang="en-US" sz="3200" spc="-1" strike="noStrike">
                <a:solidFill>
                  <a:srgbClr val="f8f326"/>
                </a:solidFill>
                <a:latin typeface="Comic Sans MS"/>
              </a:rPr>
              <a:t>é</a:t>
            </a:r>
            <a:r>
              <a:rPr b="1" lang="en-GB" sz="3200" spc="-1" strike="noStrike">
                <a:solidFill>
                  <a:srgbClr val="f8f326"/>
                </a:solidFill>
                <a:latin typeface="Comic Sans MS"/>
              </a:rPr>
              <a:t>sent, pass</a:t>
            </a:r>
            <a:r>
              <a:rPr b="1" lang="en-US" sz="3200" spc="-1" strike="noStrike">
                <a:solidFill>
                  <a:srgbClr val="f8f326"/>
                </a:solidFill>
                <a:latin typeface="Comic Sans MS"/>
              </a:rPr>
              <a:t>é </a:t>
            </a:r>
            <a:r>
              <a:rPr b="1" lang="en-GB" sz="3200" spc="-1" strike="noStrike">
                <a:solidFill>
                  <a:srgbClr val="f8f326"/>
                </a:solidFill>
                <a:latin typeface="Comic Sans MS"/>
              </a:rPr>
              <a:t>fut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Teacher and student assess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CONT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GRAMM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PRONUNCI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189000"/>
            <a:ext cx="874872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LE PLENUM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PRESENTATION IN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Teacher and student assess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CON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GRAMM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PRONUN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ffff"/>
                </a:solidFill>
                <a:uFillTx/>
                <a:latin typeface="Comic Sans MS"/>
              </a:rPr>
              <a:t>DEVOIR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IT 6.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ISCURSIVE ES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BONNE CHANCE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321300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e5ffff"/>
                </a:solidFill>
                <a:latin typeface="Tahoma"/>
              </a:rPr>
              <a:t>QUELLE EST LA DURÉE DE VIE DANS LE SOL DES PRODUITS SUIVANT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00000" y="0"/>
          <a:ext cx="7704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7704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050920" y="2276640"/>
            <a:ext cx="6481800" cy="24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724280"/>
            <a:ext cx="6408720" cy="1924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urée de vie des d</a:t>
            </a:r>
            <a:r>
              <a:rPr b="1" lang="en-US" sz="4000" spc="-1" strike="noStrike">
                <a:solidFill>
                  <a:srgbClr val="e5ffff"/>
                </a:solidFill>
                <a:latin typeface="Perpetua Titling MT"/>
              </a:rPr>
              <a:t>É</a:t>
            </a: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che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-688824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765000"/>
            <a:ext cx="85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692280"/>
          <a:ext cx="5850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692280"/>
                    <a:ext cx="585000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56516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issé dans les rues ou mis en décharge, le déchet vit encore ! 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La durée de vie d'un déchet dépend bien sûr de sa composition mais aussi des actions que nous faisons tous les jours.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déchet qui pose le moins de problème, qui ne pollue pas et qui coûte le moins cher, c’est donc celui qu’on ne produit pas !!!!!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260280"/>
            <a:ext cx="6264360" cy="914400"/>
          </a:xfrm>
          <a:prstGeom prst="rect">
            <a:avLst/>
          </a:prstGeom>
          <a:solidFill>
            <a:srgbClr val="f8f3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Comic Sans MS"/>
              </a:rPr>
              <a:t>TROUVEZ LES VERBES (4’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1628640"/>
            <a:ext cx="2879640" cy="4753080"/>
          </a:xfrm>
          <a:prstGeom prst="rect">
            <a:avLst/>
          </a:prstGeom>
          <a:solidFill>
            <a:srgbClr val="f8f3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laiss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met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pollu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produ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viv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dépendre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f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po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coû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484280"/>
            <a:ext cx="1081080" cy="362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1484280"/>
            <a:ext cx="64944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1844640"/>
            <a:ext cx="57636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2637000"/>
            <a:ext cx="12970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860640"/>
            <a:ext cx="1368360" cy="28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4292640"/>
            <a:ext cx="91440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1640" y="4581360"/>
            <a:ext cx="115236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5013360"/>
            <a:ext cx="107964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805360"/>
            <a:ext cx="144000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15920"/>
            <a:ext cx="867564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Laissé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dans les rues ou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mi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en décharge, le déchet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vi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encore ! 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La durée de vie d'un déchet </a:t>
            </a: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dépend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 bien sûr </a:t>
            </a: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de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 sa composition mais aussi </a:t>
            </a: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des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 actions que nous </a:t>
            </a: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faisons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 tous les jours.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Le déchet qui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pos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le moins de problème, qui ne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pollu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pas et qui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coût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le moins cher, c’est donc celui qu’on ne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produi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pas !!!!!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e5ffff"/>
                </a:solidFill>
                <a:uFillTx/>
                <a:latin typeface="Tahoma"/>
              </a:rPr>
              <a:t>Mon total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9/9 verbes      excellent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8/9                  très bi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7/9                  bi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6/9                  assez bi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5/9                  suffisa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12:41:04Z</dcterms:created>
  <dc:creator>Virginie Passerat</dc:creator>
  <dc:description/>
  <dc:language>en-US</dc:language>
  <cp:lastModifiedBy>mariana zander</cp:lastModifiedBy>
  <dcterms:modified xsi:type="dcterms:W3CDTF">2008-09-15T18:23:45Z</dcterms:modified>
  <cp:revision>79</cp:revision>
  <dc:subject/>
  <dc:title>Slide 1</dc:title>
</cp:coreProperties>
</file>